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3D6-3D87-4DFE-8BAA-280DFCCB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34D-E19C-433C-A0D5-C350884F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4C8-0D93-4F2B-A02C-99889FB0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0FA-4CE7-4978-BEC8-B0E1DEF8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EBF4-44DC-414D-9FDF-1D17AC14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02DF4-E226-4BFD-81E3-87F3BBC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6B9B-92B2-4323-89B4-9635D700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E752-51DF-4918-B189-40A047E7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DE3CB-4A86-468C-8CD3-8C2C56B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F66D-A92D-4B94-ABDA-AC969646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9E0E3-50F1-4D0C-8B27-AB2526A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2CB-EA49-4B63-BBF6-A101379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EB46B-23A2-4B88-8C33-945E7A7A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F76AE-3F13-4E46-B3DF-F1F06589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5E23-02DD-4CFC-A585-3F9BD26E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1174F-613A-4848-AED5-98AB232B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6084-7F01-4EE2-8CA0-61C9ED81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FC8-5BBC-44AE-928B-A1869E09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A8B-FE40-45C6-8867-ABF4D58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B9B-70A4-4436-BC49-9AD0B31A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E3F-4825-44AF-A3F9-DC3320E9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A68-BA6D-446B-85C0-5B1E24CE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345-DF6E-4C68-88ED-359B8E46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6B7-07BB-46B1-A6CE-6CC73F5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EB12-8B3B-4776-B176-9372A7FA0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E1EB-5474-4FD4-ACA2-7F04B47C7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Remnant Shall Retu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4-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ekiel 37:1-14; 15-38, Daniel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 period of time Nebuchadnezzar’s  understanding returned to hi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aised the Most High and honored Him as the one who lives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id God does according to His will in the army of heaven, and no one can stop Him, or even question what He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said he praises and extols and honors the King of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Nebuchadnezzar had learned his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Years to the Fall of Babyl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buchadnezzar -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troyed Jerusalem in 586 B.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d in 562 B.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l-Merodach his son reigned only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iglissar succeeded him and died in 556 B.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bonidus the last king of Babylon succeeded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anwhile, Persia under King Cyrus was on the r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 looks for a legal loophole for Daniel but cannot find one – 14-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iel must be thrown to the l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niel 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avenly Plan – 6:16-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’ concern – 16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ius’ early morning cry: “Was God able to save you?” – 19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’s answer: God shut the lion’s mouth – 21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’s command – 23-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: Remove him from the lions’ 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’s foes: Throw them to the l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Daniel’s God: All are to fear and reverence Daniel’s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3808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out Babylon, Here Comes Cyrus of Per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3445200">
            <a:off x="8300520" y="5381640"/>
            <a:ext cx="10479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shan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 rot="2556600">
            <a:off x="5486040" y="2133720"/>
            <a:ext cx="156204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edian Empi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267080"/>
            <a:ext cx="8380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re Here On The Time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3581280"/>
            <a:ext cx="457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6765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zekiel and Dan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Valley of the Dry Bones Vis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graphic and powerful vision in the B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God’s great power and He can always accomplish His 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ives were sunk in despair in their cap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89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nsidered themselves buried and                            dead and without ho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Valley of the Dry Bones Vision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ok Ezekiel into the midst of a val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ley full of an enormous number of dry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sked “Mortal, can these bones live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kiel told to prophesy over these dry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th came into them and they 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sion - Israel and Judah Reunite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zekiel 37:15-2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tells Ezekiel to take two sticks in his hand and tell the children of Israel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them one sti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make them one nation with one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scue and cleanse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be their God and they will be my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will be king over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set my sanctuary in their mid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s of this prophe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uchadnezzar’s Drea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eat tree growing in the midst of 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iage was luxuri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ed with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ast sought shade under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ds roosted in bran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flesh was fed from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uchadnezzar’s Dream continues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ly messenger came down from heaven saying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 the tre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 off its bran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ke off its le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 its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t a fence of brass and iron around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the stump wet with d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’s interpretation of dream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, you are the 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driven from men with the beasts of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eat grass as ox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wet from dew of hea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last until seven times pass over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realize the Most High rules over kingdoms of men and gives to whomever he w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kingdom will be kept for you until you learn that Heaven does r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Insanity of Nebuchadnezzar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ream comes true one year later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walking in the palace, Nebuchadnezzar gives himself credit for the greatness of Baby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oice from heaven says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kingdom will depart from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be driven from men to dwell in the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eat grass as an ox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body will be wet with de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 times will pass over you till you know the Most High rules in the kingdom of men and gives it to whomever He w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13:14:50Z</dcterms:created>
  <dc:creator>John Vines</dc:creator>
  <dc:description/>
  <dc:language>en-US</dc:language>
  <cp:lastModifiedBy>Frank D Vines</cp:lastModifiedBy>
  <dcterms:modified xsi:type="dcterms:W3CDTF">2006-04-03T20:52:19Z</dcterms:modified>
  <cp:revision>30</cp:revision>
  <dc:subject/>
  <dc:title>A Remnant Shall Return</dc:title>
</cp:coreProperties>
</file>